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E89A-FA03-444F-931D-0946B8B6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4CA1-3E4C-4706-8DE1-BE18ED58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9D36-3B6A-405D-967E-80C7BAF0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18356-C6FC-42AC-8F72-48B4B770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9731-6EF9-4AA8-B6C0-A040F3DD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AFD8-20A7-44C1-808E-D7A9CF27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3AE7-B3A1-40B9-98C7-F3A4644E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0D4F-1056-4AEA-AA9F-C059CA7C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022E-7453-4A20-8230-A0A851E8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55F3-7EDD-4C97-A7EC-9E144E0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46AB-3E4E-4AD1-8BCB-1E67FB15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9305-9E2D-4E44-97B7-559061BB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670C-0AD3-4C42-8B4C-4E1449CBFCB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Oval 22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6095520" y="136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aphicFrame>
        <p:nvGraphicFramePr>
          <p:cNvPr id="49" name="Object 17"/>
          <p:cNvGraphicFramePr/>
          <p:nvPr/>
        </p:nvGraphicFramePr>
        <p:xfrm>
          <a:off x="395280" y="2349360"/>
          <a:ext cx="8748720" cy="29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748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6" name="Text Box 14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8" name="Rectangle 31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Mẫu Slide Power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185184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c89d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8" name="Text Box 39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01" name="Oval 42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2" name="Oval 43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3" name="Oval 44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4" name="Oval 45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06" name="Oval 47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7" name="Oval 48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9" name="Oval 50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0" name="Oval 51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1" name="Text Box 52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3" name="Oval 54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4" name="Oval 55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5" name="Oval 56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6" name="Oval 57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Text Box 58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8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5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284f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8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9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1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2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3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57aba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65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d306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0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1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7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8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7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3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3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0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6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8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9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10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2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3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4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5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1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7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9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23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23f6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26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30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31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435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6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48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49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50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1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2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54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55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56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8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9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0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1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62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4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5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6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b3ab">
                  <a:alpha val="32156"/>
                </a:srgbClr>
              </a:gs>
              <a:gs pos="100000">
                <a:srgbClr val="57ab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16c"/>
              </a:gs>
              <a:gs pos="50000">
                <a:srgbClr val="8fafe9"/>
              </a:gs>
              <a:gs pos="100000">
                <a:srgbClr val="4251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f4b"/>
              </a:gs>
              <a:gs pos="50000">
                <a:srgbClr val="57aba3"/>
              </a:gs>
              <a:gs pos="100000">
                <a:srgbClr val="284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6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9b6c7">
                  <a:alpha val="32156"/>
                </a:srgbClr>
              </a:gs>
              <a:gs pos="100000">
                <a:srgbClr val="8581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89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90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23d"/>
                </a:gs>
                <a:gs pos="50000">
                  <a:srgbClr val="85819d"/>
                </a:gs>
                <a:gs pos="100000">
                  <a:srgbClr val="3432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2387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03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3b8bb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6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4cac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7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b6098"/>
                </a:gs>
                <a:gs pos="100000">
                  <a:srgbClr val="6c89d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8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b8db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9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4f6f7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1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2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3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fc7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4b8"/>
                </a:gs>
                <a:gs pos="100000">
                  <a:srgbClr val="8581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7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4d4a5b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b1af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9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3c9c4"/>
              </a:gs>
              <a:gs pos="100000">
                <a:srgbClr val="57aba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27" name="Group 6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28" name="Group 7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29" name="Group 8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30" name="Oval 9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b6f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1"/>
              <p:cNvSpPr/>
              <p:nvPr/>
            </p:nvSpPr>
            <p:spPr>
              <a:xfrm>
                <a:off x="107280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3" name="Oval 12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34" name="Group 13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35" name="Group 14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d58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99448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8" name="Text Box 17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9" name="Oval 18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0" name="Group 19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41" name="Group 20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42" name="Oval 21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505188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45" name="Oval 24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47" name="Group 26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48" name="Group 27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49" name="Oval 28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29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30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2" name="Oval 31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41"/>
          <p:cNvSpPr/>
          <p:nvPr/>
        </p:nvSpPr>
        <p:spPr>
          <a:xfrm rot="5400000">
            <a:off x="-2249280" y="16268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beef0"/>
              </a:gs>
              <a:gs pos="50000">
                <a:srgbClr val="d3d9dd"/>
              </a:gs>
              <a:gs pos="100000">
                <a:srgbClr val="ebeef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AutoShape 42"/>
          <p:cNvSpPr/>
          <p:nvPr/>
        </p:nvSpPr>
        <p:spPr>
          <a:xfrm flipH="1" rot="5400000">
            <a:off x="-1843920" y="206244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199548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AutoShape 44"/>
          <p:cNvSpPr/>
          <p:nvPr/>
        </p:nvSpPr>
        <p:spPr>
          <a:xfrm>
            <a:off x="249084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261144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AutoShape 46"/>
          <p:cNvSpPr/>
          <p:nvPr/>
        </p:nvSpPr>
        <p:spPr>
          <a:xfrm>
            <a:off x="2459160" y="27432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AutoShape 47"/>
          <p:cNvSpPr/>
          <p:nvPr/>
        </p:nvSpPr>
        <p:spPr>
          <a:xfrm>
            <a:off x="1938240" y="19731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09" name="Group 48"/>
          <p:cNvGrpSpPr/>
          <p:nvPr/>
        </p:nvGrpSpPr>
        <p:grpSpPr>
          <a:xfrm>
            <a:off x="1620720" y="2062080"/>
            <a:ext cx="381240" cy="381240"/>
            <a:chOff x="1620720" y="2062080"/>
            <a:chExt cx="381240" cy="381240"/>
          </a:xfrm>
        </p:grpSpPr>
        <p:sp>
          <p:nvSpPr>
            <p:cNvPr id="110" name="Oval 49"/>
            <p:cNvSpPr/>
            <p:nvPr/>
          </p:nvSpPr>
          <p:spPr>
            <a:xfrm>
              <a:off x="1620720" y="2062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1" name="Oval 50"/>
            <p:cNvSpPr/>
            <p:nvPr/>
          </p:nvSpPr>
          <p:spPr>
            <a:xfrm>
              <a:off x="1642320" y="208332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2" name="Oval 51"/>
            <p:cNvSpPr/>
            <p:nvPr/>
          </p:nvSpPr>
          <p:spPr>
            <a:xfrm>
              <a:off x="1661760" y="210312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3" name="Oval 52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4" name="Oval 53"/>
            <p:cNvSpPr/>
            <p:nvPr/>
          </p:nvSpPr>
          <p:spPr>
            <a:xfrm>
              <a:off x="168120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16" name="Group 55"/>
          <p:cNvGrpSpPr/>
          <p:nvPr/>
        </p:nvGrpSpPr>
        <p:grpSpPr>
          <a:xfrm>
            <a:off x="2154240" y="2849400"/>
            <a:ext cx="380880" cy="381240"/>
            <a:chOff x="2154240" y="2849400"/>
            <a:chExt cx="380880" cy="381240"/>
          </a:xfrm>
        </p:grpSpPr>
        <p:sp>
          <p:nvSpPr>
            <p:cNvPr id="117" name="Oval 56"/>
            <p:cNvSpPr/>
            <p:nvPr/>
          </p:nvSpPr>
          <p:spPr>
            <a:xfrm>
              <a:off x="215424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Oval 57"/>
            <p:cNvSpPr/>
            <p:nvPr/>
          </p:nvSpPr>
          <p:spPr>
            <a:xfrm>
              <a:off x="217584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9" name="Oval 58"/>
            <p:cNvSpPr/>
            <p:nvPr/>
          </p:nvSpPr>
          <p:spPr>
            <a:xfrm>
              <a:off x="2195280" y="28904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0" name="Oval 59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1" name="Oval 60"/>
            <p:cNvSpPr/>
            <p:nvPr/>
          </p:nvSpPr>
          <p:spPr>
            <a:xfrm>
              <a:off x="22143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2" name="Oval 61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3" name="Group 62"/>
          <p:cNvGrpSpPr/>
          <p:nvPr/>
        </p:nvGrpSpPr>
        <p:grpSpPr>
          <a:xfrm>
            <a:off x="2306520" y="3687840"/>
            <a:ext cx="381240" cy="380880"/>
            <a:chOff x="2306520" y="3687840"/>
            <a:chExt cx="381240" cy="380880"/>
          </a:xfrm>
        </p:grpSpPr>
        <p:sp>
          <p:nvSpPr>
            <p:cNvPr id="124" name="Oval 63"/>
            <p:cNvSpPr/>
            <p:nvPr/>
          </p:nvSpPr>
          <p:spPr>
            <a:xfrm>
              <a:off x="2306520" y="36878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5" name="Oval 64"/>
            <p:cNvSpPr/>
            <p:nvPr/>
          </p:nvSpPr>
          <p:spPr>
            <a:xfrm>
              <a:off x="2328120" y="37090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Oval 65"/>
            <p:cNvSpPr/>
            <p:nvPr/>
          </p:nvSpPr>
          <p:spPr>
            <a:xfrm>
              <a:off x="2347560" y="37288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Oval 66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Oval 67"/>
            <p:cNvSpPr/>
            <p:nvPr/>
          </p:nvSpPr>
          <p:spPr>
            <a:xfrm>
              <a:off x="236700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9" name="Oval 68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2154240" y="4525920"/>
            <a:ext cx="380880" cy="380880"/>
            <a:chOff x="2154240" y="4525920"/>
            <a:chExt cx="380880" cy="380880"/>
          </a:xfrm>
        </p:grpSpPr>
        <p:sp>
          <p:nvSpPr>
            <p:cNvPr id="131" name="Oval 70"/>
            <p:cNvSpPr/>
            <p:nvPr/>
          </p:nvSpPr>
          <p:spPr>
            <a:xfrm>
              <a:off x="215424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217584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Oval 72"/>
            <p:cNvSpPr/>
            <p:nvPr/>
          </p:nvSpPr>
          <p:spPr>
            <a:xfrm>
              <a:off x="2195280" y="45669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4" name="Oval 73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5" name="Oval 74"/>
            <p:cNvSpPr/>
            <p:nvPr/>
          </p:nvSpPr>
          <p:spPr>
            <a:xfrm>
              <a:off x="22143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6" name="Oval 75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7" name="Group 76"/>
          <p:cNvGrpSpPr/>
          <p:nvPr/>
        </p:nvGrpSpPr>
        <p:grpSpPr>
          <a:xfrm>
            <a:off x="1697040" y="5300640"/>
            <a:ext cx="355680" cy="380880"/>
            <a:chOff x="1697040" y="5300640"/>
            <a:chExt cx="355680" cy="380880"/>
          </a:xfrm>
        </p:grpSpPr>
        <p:sp>
          <p:nvSpPr>
            <p:cNvPr id="138" name="Oval 77"/>
            <p:cNvSpPr/>
            <p:nvPr/>
          </p:nvSpPr>
          <p:spPr>
            <a:xfrm>
              <a:off x="16970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9" name="Oval 78"/>
            <p:cNvSpPr/>
            <p:nvPr/>
          </p:nvSpPr>
          <p:spPr>
            <a:xfrm>
              <a:off x="17172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173484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Oval 80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Oval 81"/>
            <p:cNvSpPr/>
            <p:nvPr/>
          </p:nvSpPr>
          <p:spPr>
            <a:xfrm>
              <a:off x="175428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Oval 82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3780000" y="184464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f86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ba3"/>
                    </a:gs>
                    <a:gs pos="100000">
                      <a:srgbClr val="6c89d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ba3"/>
                  </a:gs>
                  <a:gs pos="100000">
                    <a:srgbClr val="6c89da"/>
                  </a:gs>
                </a:gsLst>
                <a:lin ang="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662120"/>
            <a:ext cx="7824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f8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fafe9"/>
              </a:gs>
              <a:gs pos="100000">
                <a:srgbClr val="b8cc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ca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a53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5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5dad6"/>
                  </a:gs>
                  <a:gs pos="100000">
                    <a:srgbClr val="57aba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5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23f65"/>
                </a:gs>
                <a:gs pos="100000">
                  <a:srgbClr val="6c89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c89da">
                    <a:alpha val="0"/>
                  </a:srgbClr>
                </a:gs>
                <a:gs pos="100000">
                  <a:srgbClr val="ccd6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66dad"/>
                </a:gs>
                <a:gs pos="100000">
                  <a:srgbClr val="6c89d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89d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6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5819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5819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655"/>
              </a:gs>
              <a:gs pos="50000">
                <a:srgbClr val="85819d"/>
              </a:gs>
              <a:gs pos="100000">
                <a:srgbClr val="48465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45264"/>
              </a:gs>
              <a:gs pos="100000">
                <a:srgbClr val="85819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83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87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c89d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89da">
                  <a:alpha val="32156"/>
                </a:srgbClr>
              </a:gs>
              <a:gs pos="100000">
                <a:srgbClr val="323f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a76"/>
              </a:gs>
              <a:gs pos="50000">
                <a:srgbClr val="6c89da"/>
              </a:gs>
              <a:gs pos="100000">
                <a:srgbClr val="3a4a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5578a"/>
              </a:gs>
              <a:gs pos="100000">
                <a:srgbClr val="6c89d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2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93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4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5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6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97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98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02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8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264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5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7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26466">
                    <a:alpha val="12156"/>
                  </a:srgbClr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1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3e7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3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5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3e7e9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7ab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d58"/>
                  </a:gs>
                  <a:gs pos="50000">
                    <a:srgbClr val="57aba3"/>
                  </a:gs>
                  <a:gs pos="100000">
                    <a:srgbClr val="2f5d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26466"/>
                </a:gs>
                <a:gs pos="50000">
                  <a:srgbClr val="d3d9dd"/>
                </a:gs>
                <a:gs pos="100000">
                  <a:srgbClr val="626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87fa9"/>
                </a:gs>
                <a:gs pos="50000">
                  <a:srgbClr val="8fafe9"/>
                </a:gs>
                <a:gs pos="100000">
                  <a:srgbClr val="687f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c76"/>
                </a:gs>
                <a:gs pos="50000">
                  <a:srgbClr val="57aba3"/>
                </a:gs>
                <a:gs pos="100000">
                  <a:srgbClr val="3f7c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e72"/>
                </a:gs>
                <a:gs pos="50000">
                  <a:srgbClr val="85819d"/>
                </a:gs>
                <a:gs pos="100000">
                  <a:srgbClr val="605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99da0"/>
                </a:gs>
                <a:gs pos="50000">
                  <a:srgbClr val="d3d9dd"/>
                </a:gs>
                <a:gs pos="100000">
                  <a:srgbClr val="999d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1c7f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ac4b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8:43Z</dcterms:created>
  <dc:creator>Admin</dc:creator>
  <dc:description/>
  <dc:language>en-US</dc:language>
  <cp:lastModifiedBy>Nga</cp:lastModifiedBy>
  <dcterms:modified xsi:type="dcterms:W3CDTF">2017-09-15T08:57:16Z</dcterms:modified>
  <cp:revision>3</cp:revision>
  <dc:subject/>
  <dc:title>PowerPoint Template</dc:title>
</cp:coreProperties>
</file>